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2.png" ContentType="image/png"/>
  <Override PartName="/ppt/media/image49.jpeg" ContentType="image/jpeg"/>
  <Override PartName="/ppt/media/image48.jpeg" ContentType="image/jpeg"/>
  <Override PartName="/ppt/media/image8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38.jpeg" ContentType="image/jpeg"/>
  <Override PartName="/ppt/media/image50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313-29B6-4536-8863-547DF4F5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CA0-50D6-4E62-A9CD-28D14F67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472-AB70-4070-B26D-901EDDF9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309-2A46-4D42-ABE5-A3B1190D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7642-9B21-4FB2-B18D-4FC83128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D12E-AB39-4786-8494-543CBCDE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5EDC-54F9-417A-8094-7FD85453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D758-F688-44AD-B5DA-C8F58492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918A-87D4-489F-B4ED-67A17E99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1E3-5D6A-48CE-8992-75B036FF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A04-9688-4BEB-9A6B-871BA96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78F-2579-4E43-AD68-308A6B20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5B0-C01B-4F4A-B622-1824523C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E6C9-AB51-419A-8EB3-F4C1654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26C4-EE23-448D-A207-F2ACB708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2C1F-CE84-4630-BADC-CEBDA8F7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58E6-F5A1-4D0B-B61A-00AC98D0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882E-EA5C-44E5-9DE4-4D02CAF6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23FE-1B39-40FD-B859-8FCE8588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50EC-C6DA-4DDD-81A9-6BAF94F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75DF-51CC-49D8-8BD9-FE8C82F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9FCF-B812-4137-B311-588C1ABB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BC5-8417-4C00-BBC3-FF457C5F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9198-FC88-4A1D-9C92-B8141C8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00FD-4DE8-4FFC-8F5F-99AA024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397B-7C43-4C92-9C60-E438F33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A145-0D42-494F-91B1-C278294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97B7-35E1-4EC7-A178-6F6D54AE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11A3-DF94-4338-8764-291951C1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08DE-20DB-4671-AD29-29AEAE51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8BE3-95B0-4DB8-97AA-3886B871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6381-6C3E-4F3D-AE28-11F64CA7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E0F7-E9E4-48E2-8113-761847C4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840-846E-4613-A95E-ADD2493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B010-0991-48BD-B2A7-54024F03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7314-892C-4F1B-A07B-6F6EFB3B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4102-F3DF-413C-8535-6EFCA41B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CBE9-8C0A-4DFC-8F5C-6DB37B4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331F-9D60-4F0B-8D9A-84C0ACB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1BD3-E2E6-4426-A337-D8626EFF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796D-01B5-4F95-A23A-C9C23BD7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3787-9AF6-4B12-9838-2DE97C28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1ED1-D891-4392-9F27-9728BD3B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D05-B0B6-4929-A824-AEEFC9F1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057-E2B5-44AF-B15E-1BCC8662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1C7-3FC3-4322-9952-97EBA9E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0B9-4879-48EE-B89C-5E193FD7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2A0-61E9-4EB1-801A-B2FAA29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3976-3CD5-45D5-A66F-27B620CF69B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AFA5-1292-4428-8339-9DF1E395C21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6F6-3E52-428B-805E-D93EED9BB55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36C3-BF0D-4106-AB46-8738BFD43E5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C:\Users\User\Desktop\9.png"/>
          <p:cNvPicPr/>
          <p:nvPr/>
        </p:nvPicPr>
        <p:blipFill>
          <a:blip r:embed="rId1"/>
          <a:stretch/>
        </p:blipFill>
        <p:spPr>
          <a:xfrm>
            <a:off x="0" y="2722680"/>
            <a:ext cx="4876920" cy="413532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2" descr=""/>
          <p:cNvPicPr/>
          <p:nvPr/>
        </p:nvPicPr>
        <p:blipFill>
          <a:blip r:embed="rId2"/>
          <a:stretch/>
        </p:blipFill>
        <p:spPr>
          <a:xfrm>
            <a:off x="79200" y="1170000"/>
            <a:ext cx="9064800" cy="1822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5257800" y="6324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41600" y="5241600"/>
            <a:ext cx="390204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Monotype Corsiva"/>
              </a:rPr>
              <a:t>Преподаватель ГБПОУ «ГК г. Сызрани» - Киреева Марина Владимировн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689040" y="-5544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пециальные программы, которые используются злоумышленниками для проникновения в операционную систему через ее уязвимые, незащищенные места. Используются для проникновения программ, которые воруют информацию, необходимую для получения прав доступа к компьютер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5" descr="4kYDKFmaCnc"/>
          <p:cNvPicPr/>
          <p:nvPr/>
        </p:nvPicPr>
        <p:blipFill>
          <a:blip r:embed="rId2"/>
          <a:stretch/>
        </p:blipFill>
        <p:spPr>
          <a:xfrm>
            <a:off x="2895480" y="365760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689040" y="-5544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5998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редоносная программа, осуществляющая контроль над браузером пользователя и направляющая его на фальшивые сайты злоумышленника. Во «внутренности» браузера эти паразиты попадают при помощи троянов и червей. При этом будут отображаться только фальшивые сайты, даже если адрес был введен правильн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Picture 4" descr="pharming-y-phising-3-638"/>
          <p:cNvPicPr/>
          <p:nvPr/>
        </p:nvPicPr>
        <p:blipFill>
          <a:blip r:embed="rId2"/>
          <a:stretch/>
        </p:blipFill>
        <p:spPr>
          <a:xfrm>
            <a:off x="2743200" y="3581280"/>
            <a:ext cx="3352680" cy="2517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969840" y="-49320"/>
            <a:ext cx="7107480" cy="15001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ная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(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, средство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ной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защиты, средство обнаружения вредоносных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) — специализированная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для обнаружения компьютерных вирусов, а также нежелательных (считающихся вредоносными)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и восстановления заражённых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4" descr="img15"/>
          <p:cNvPicPr/>
          <p:nvPr/>
        </p:nvPicPr>
        <p:blipFill>
          <a:blip r:embed="rId2"/>
          <a:stretch/>
        </p:blipFill>
        <p:spPr>
          <a:xfrm>
            <a:off x="2743200" y="3733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533520" y="5105520"/>
            <a:ext cx="6094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993600" y="6480"/>
            <a:ext cx="7229520" cy="1444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219320" y="19047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Детекторные программы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Лечебные программы (доктора), или фаг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для ревизии (ревизоры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фильтрации (фильтры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вакцинации, или программы иммунизац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609480" y="5791320"/>
            <a:ext cx="762120" cy="609480"/>
          </a:xfrm>
          <a:custGeom>
            <a:avLst/>
            <a:gdLst>
              <a:gd name="textAreaLeft" fmla="*/ 177480 w 762120"/>
              <a:gd name="textAreaRight" fmla="*/ 584280 w 76212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User\Desktop\1.jpg"/>
          <p:cNvPicPr/>
          <p:nvPr/>
        </p:nvPicPr>
        <p:blipFill>
          <a:blip r:embed="rId1"/>
          <a:stretch/>
        </p:blipFill>
        <p:spPr>
          <a:xfrm>
            <a:off x="5334120" y="30178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6720" y="1176480"/>
            <a:ext cx="83822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-детекторы осуществляют поиск характерной для конкретного вируса сигнатуры в оперативной памяти и в файлах и при обнаружении выдают соответствующее сообщение. Недостатком таких антивирусных программ является то, что они могут находить только те вирусы, которые известны разработчикам таких програм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Users\User\Desktop\3.jpg"/>
          <p:cNvPicPr/>
          <p:nvPr/>
        </p:nvPicPr>
        <p:blipFill>
          <a:blip r:embed="rId1"/>
          <a:stretch/>
        </p:blipFill>
        <p:spPr>
          <a:xfrm>
            <a:off x="4338720" y="2082960"/>
            <a:ext cx="4775040" cy="47750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" descr=""/>
          <p:cNvPicPr/>
          <p:nvPr/>
        </p:nvPicPr>
        <p:blipFill>
          <a:blip r:embed="rId2"/>
          <a:stretch/>
        </p:blipFill>
        <p:spPr>
          <a:xfrm>
            <a:off x="-36360" y="6480"/>
            <a:ext cx="8924760" cy="1444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04920" y="1295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доктора или фаги, а также программы-вакцины не только находят зараженные вирусами файлы, но и «лечат» их, то есть удаляют из файла тело программы-вируса, возвращая файлы в исходное состояние. В начале своей работы фаги ищут вирусы в оперативной памяти, уничтожая их, и только затем переходят к «лечению» файлов. Среди фагов выделяют полифаги, то есть программы-доктора, предназначенные для поиска и уничтожения большого количества вирусов. Учитывая, что постоянно появляются новые вирусы, программы-детекторы и программы-доктора быстро устаревают, и требуется регулярное обновление верс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C:\Users\User\Desktop\4.jpg"/>
          <p:cNvPicPr/>
          <p:nvPr/>
        </p:nvPicPr>
        <p:blipFill>
          <a:blip r:embed="rId1"/>
          <a:stretch/>
        </p:blipFill>
        <p:spPr>
          <a:xfrm>
            <a:off x="5572080" y="2813040"/>
            <a:ext cx="3556080" cy="402912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-360" y="1218960"/>
            <a:ext cx="8915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ревизоры (инспектора) относятся к самым надежным средствам защиты от вирусов. Ревизоры (инспектора) проверяют данные на диске на предмет вирусов-невидимок, изучают, не забрался ли вирус в файлы, нет ли посторонних в загрузочном секторе жесткого диска, нет ли несанкционированных изменений реестра Windows. Причем инспектор может не пользоваться средствами операционной системы для обращения к дискам (а значит, активный вирус не сможет это обращение перехватить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C:\Users\User\Desktop\5.jpg"/>
          <p:cNvPicPr/>
          <p:nvPr/>
        </p:nvPicPr>
        <p:blipFill>
          <a:blip r:embed="rId1"/>
          <a:srcRect l="0" t="10624" r="0" b="10624"/>
          <a:stretch/>
        </p:blipFill>
        <p:spPr>
          <a:xfrm>
            <a:off x="2568600" y="2716200"/>
            <a:ext cx="4457520" cy="3510000"/>
          </a:xfrm>
          <a:prstGeom prst="rect">
            <a:avLst/>
          </a:prstGeom>
          <a:ln w="0">
            <a:noFill/>
          </a:ln>
        </p:spPr>
      </p:pic>
      <p:pic>
        <p:nvPicPr>
          <p:cNvPr id="289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-360" y="11430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фильтры (мониторы) или «сторожа» представляют собой небольшие резидентные программы, предназначенные для обнаружения подозрительных действий при работе компьютера, характерных для вирусов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1" name="Picture 2" descr="C:\Users\User\Desktop\2.jpg"/>
          <p:cNvPicPr/>
          <p:nvPr/>
        </p:nvPicPr>
        <p:blipFill>
          <a:blip r:embed="rId3"/>
          <a:stretch/>
        </p:blipFill>
        <p:spPr>
          <a:xfrm>
            <a:off x="-7620120" y="-87631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User\Desktop\2.jpg"/>
          <p:cNvPicPr/>
          <p:nvPr/>
        </p:nvPicPr>
        <p:blipFill>
          <a:blip r:embed="rId1"/>
          <a:srcRect l="27660" t="3727" r="24445" b="0"/>
          <a:stretch/>
        </p:blipFill>
        <p:spPr>
          <a:xfrm>
            <a:off x="6858000" y="2293920"/>
            <a:ext cx="2286000" cy="456408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80880" y="11426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зидентные программы, предотвращающие заражение файлов. Вакцины применяют, если отсутствуют программы-доктора, «лечащие» этот вирус. Вакцинация возможна только от известных вирусов. Вакцина модифицирует программу или диск таким образом, чтобы это не отражалось на их работе, а вирус будет воспринимать их зараженными и поэтому не внедрится. В настоящее время программы-вакцины имеют ограниченное применен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57200" y="-109440"/>
            <a:ext cx="8448840" cy="1444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348920"/>
            <a:ext cx="822960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Avast! 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— антивирусная программа для операционных систем Windows, Mac OS, а также для КПК на платформе Palm, Android и Windows CE.  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Антивирус Касперского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— антивирусное программное обеспечение, разрабатываемое Лабораторией Касперского. Предоставляет пользователю защиту от вирусов, троянских программ, шпионских программ, руткитов, adware, а также неизвестных угроз с помощью проактивной защиты, включающей компонент HIP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Agnitum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— российская компания-производитель программного обеспечения в области безопасности персонального компьютера. Наиболее известный продукт Agnitum — персональный файрвол Outpost Firewall Pro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Dr.Web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( </a:t>
            </a: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Доктор Веб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) — общее название семейства программного антивирусного ПО для различных платформ (Windows, OS X, Linux, мобильные платформы) и линейки программно-аппаратных решений (Dr.Web Office Shield), а также решений для обеспечения безопасности всех узлов корпоративной сет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7" name="Picture 4" descr="167dc6739424c74060c0c43749c77bde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AV_small_print"/>
          <p:cNvPicPr/>
          <p:nvPr/>
        </p:nvPicPr>
        <p:blipFill>
          <a:blip r:embed="rId3"/>
          <a:stretch/>
        </p:blipFill>
        <p:spPr>
          <a:xfrm>
            <a:off x="2819520" y="5181480"/>
            <a:ext cx="1103040" cy="1524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t1@6b519d54-c296-4e3b-b5d5-2444f8394847"/>
          <p:cNvPicPr/>
          <p:nvPr/>
        </p:nvPicPr>
        <p:blipFill>
          <a:blip r:embed="rId4"/>
          <a:stretch/>
        </p:blipFill>
        <p:spPr>
          <a:xfrm>
            <a:off x="449568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t1@e3fa3824-f156-4e61-90c0-49f4b50d66d0"/>
          <p:cNvPicPr/>
          <p:nvPr/>
        </p:nvPicPr>
        <p:blipFill>
          <a:blip r:embed="rId5"/>
          <a:stretch/>
        </p:blipFill>
        <p:spPr>
          <a:xfrm>
            <a:off x="6934320" y="51814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8"/>
          <p:cNvSpPr/>
          <p:nvPr/>
        </p:nvSpPr>
        <p:spPr>
          <a:xfrm>
            <a:off x="7696080" y="762120"/>
            <a:ext cx="990720" cy="685800"/>
          </a:xfrm>
          <a:prstGeom prst="sun">
            <a:avLst>
              <a:gd name="adj" fmla="val 25000"/>
            </a:avLst>
          </a:prstGeom>
          <a:solidFill>
            <a:srgbClr val="59a8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1298520" y="30240"/>
            <a:ext cx="6510240" cy="1493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9320" y="190476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Компьютерный вирус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Виды компьютерных вирус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Антивирусная программа -  эт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Виды антивирусных програм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имеры антивирусных програм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1292400" y="944640"/>
            <a:ext cx="6535440" cy="1493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User\Desktop\8.jpg"/>
          <p:cNvPicPr/>
          <p:nvPr/>
        </p:nvPicPr>
        <p:blipFill>
          <a:blip r:embed="rId2"/>
          <a:stretch/>
        </p:blipFill>
        <p:spPr>
          <a:xfrm>
            <a:off x="746280" y="2514600"/>
            <a:ext cx="76197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комп вирус"/>
          <p:cNvPicPr/>
          <p:nvPr/>
        </p:nvPicPr>
        <p:blipFill>
          <a:blip r:embed="rId1"/>
          <a:stretch/>
        </p:blipFill>
        <p:spPr>
          <a:xfrm>
            <a:off x="3276720" y="4309920"/>
            <a:ext cx="279864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2" descr=""/>
          <p:cNvPicPr/>
          <p:nvPr/>
        </p:nvPicPr>
        <p:blipFill>
          <a:blip r:embed="rId2"/>
          <a:stretch/>
        </p:blipFill>
        <p:spPr>
          <a:xfrm>
            <a:off x="231840" y="-12240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5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Компью́терный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и́рус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— вид вредоносного программного обеспечения, способного внедряться в код других программ, системные области памяти, загрузочные секторы, и распространять свои копии по разнообразным каналам связи. Основная цель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ирус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— его распространени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762120" y="4800600"/>
            <a:ext cx="609480" cy="990720"/>
          </a:xfrm>
          <a:prstGeom prst="upArrow">
            <a:avLst>
              <a:gd name="adj1" fmla="val 50000"/>
              <a:gd name="adj2" fmla="val 40638"/>
            </a:avLst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378080" y="341280"/>
            <a:ext cx="6802200" cy="12924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4572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8580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861048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1523880" y="1371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2209680" y="1371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2971800" y="1371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3809880" y="13716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724280" y="1371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5638680" y="1371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6400800" y="1371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"/>
          <p:cNvSpPr/>
          <p:nvPr/>
        </p:nvSpPr>
        <p:spPr>
          <a:xfrm>
            <a:off x="708660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7894800" y="1447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229320" y="2971080"/>
            <a:ext cx="86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914400" y="51040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янска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1744560" y="4486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3200400" y="5180400"/>
            <a:ext cx="137160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шпи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1756800" y="3839040"/>
            <a:ext cx="88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нн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2362320" y="28947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грузочные виру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4191480" y="32756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ло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8114040" y="2666160"/>
            <a:ext cx="10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рм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5943600" y="23616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ш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6324480" y="5486040"/>
            <a:ext cx="1570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пионское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7549560" y="3428280"/>
            <a:ext cx="8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тк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4722840" y="4571640"/>
            <a:ext cx="208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5"/>
          <p:cNvSpPr/>
          <p:nvPr/>
        </p:nvSpPr>
        <p:spPr>
          <a:xfrm>
            <a:off x="304920" y="60199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img3"/>
          <p:cNvPicPr/>
          <p:nvPr/>
        </p:nvPicPr>
        <p:blipFill>
          <a:blip r:embed="rId1"/>
          <a:stretch/>
        </p:blipFill>
        <p:spPr>
          <a:xfrm>
            <a:off x="2743200" y="3886200"/>
            <a:ext cx="3749760" cy="281160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2" descr=""/>
          <p:cNvPicPr/>
          <p:nvPr/>
        </p:nvPicPr>
        <p:blipFill>
          <a:blip r:embed="rId2"/>
          <a:stretch/>
        </p:blipFill>
        <p:spPr>
          <a:xfrm>
            <a:off x="0" y="-8568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just">
              <a:lnSpc>
                <a:spcPct val="13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0" lang="ru-RU" sz="1900" spc="-1" strike="noStrike">
                <a:solidFill>
                  <a:srgbClr val="404040"/>
                </a:solidFill>
                <a:latin typeface="Comic Sans MS"/>
              </a:rPr>
              <a:t>вредоносная программа, целью которой является забить компьютер всяким мусором для того, чтобы он стал медленным и неуклюжим. Червь способен саморазмножаться, но не может быть частью программы. Чаще всего заражение этим вирусом происходит посредством электронных писем.</a:t>
            </a:r>
            <a:br>
              <a:rPr sz="1900"/>
            </a:b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0" y="-128520"/>
            <a:ext cx="877248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эта программа полностью оправдывает свое название. Она проникает в другие программы и скрывается там до момента, когда программа-хозяин будет запущена. До запуска хозяйской программы вирус не может нанести вред. Чаще всего троянский конь используется для удаления, изменения или кражи данных. Самостоятельно размножатся троян не может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6" descr="cb85c657207ed93ed44a4f9b0b5d894a"/>
          <p:cNvPicPr/>
          <p:nvPr/>
        </p:nvPicPr>
        <p:blipFill>
          <a:blip r:embed="rId2"/>
          <a:stretch/>
        </p:blipFill>
        <p:spPr>
          <a:xfrm>
            <a:off x="4572000" y="3962520"/>
            <a:ext cx="3813120" cy="273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304920" y="-12852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эти Штирлицы занимаются сбором информации о пользователе и его действиях. Чаще всего они воруют конфиденциальную информацию: пароли, адреса, номера карт/счетов и т. д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Зомби – такое название вредоносные программы получили, оттого, что и в самом деле делают из компьютера «безвольную» машину, подчиняющуюся злоумышленникам. Проще говоря, нехорошие люди могут управлять чьим-либо компьютером посредством этих вредоносных программ. Чаще всего пользователь даже не знает, что его компьютер уже не только ег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6" descr="spying-laptop"/>
          <p:cNvPicPr/>
          <p:nvPr/>
        </p:nvPicPr>
        <p:blipFill>
          <a:blip r:embed="rId2"/>
          <a:stretch/>
        </p:blipFill>
        <p:spPr>
          <a:xfrm>
            <a:off x="838080" y="4267080"/>
            <a:ext cx="3048120" cy="2136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nx_PI_XoJo"/>
          <p:cNvPicPr/>
          <p:nvPr/>
        </p:nvPicPr>
        <p:blipFill>
          <a:blip r:embed="rId3"/>
          <a:stretch/>
        </p:blipFill>
        <p:spPr>
          <a:xfrm>
            <a:off x="4648320" y="411480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311040" y="-128520"/>
            <a:ext cx="8985240" cy="1542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8088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эти программы блокируют доступ к операционной системе. При включении компьютера пользователь видит всплывающее окно, в котором обычно его в чем-то обвиняют: нарушении авторских прав или скачивании пиратского программного обеспечения. Далее, следуют угрозы полного удаления всей информации с компьютера. Для того чтобы этого избежать пользователь должен пополнить счет определенного телефона или отослать СМС. Только вот, даже если пользователь проделает все эти операции, баннер с угрозами никуда не денетс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2" name="Picture 7" descr="Trojan"/>
          <p:cNvPicPr/>
          <p:nvPr/>
        </p:nvPicPr>
        <p:blipFill>
          <a:blip r:embed="rId2"/>
          <a:stretch/>
        </p:blipFill>
        <p:spPr>
          <a:xfrm>
            <a:off x="2362320" y="3657600"/>
            <a:ext cx="4572000" cy="2666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762120" y="-55440"/>
            <a:ext cx="6791040" cy="1549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поражают загрузочный сектор винчестера (жесткого диска). Их целью является существенное замедление процесса загрузки операционной системы. После длительного воздействия этих вирусов на компьютер существует большая вероятность не загрузить операционную систему совсем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5" name="Picture 4" descr="img3 (1)"/>
          <p:cNvPicPr/>
          <p:nvPr/>
        </p:nvPicPr>
        <p:blipFill>
          <a:blip r:embed="rId2"/>
          <a:stretch/>
        </p:blipFill>
        <p:spPr>
          <a:xfrm>
            <a:off x="274320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3T10:26:07Z</dcterms:created>
  <dc:creator>1 курс</dc:creator>
  <dc:description/>
  <dc:language>en-US</dc:language>
  <cp:lastModifiedBy>User</cp:lastModifiedBy>
  <dcterms:modified xsi:type="dcterms:W3CDTF">2021-03-10T09:15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